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8800" cy="92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08040" y="4393800"/>
            <a:ext cx="5694480" cy="4560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826560" y="212400"/>
            <a:ext cx="5256360" cy="394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6684840" y="9067680"/>
            <a:ext cx="2304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9FCA8B6-6F54-4BB5-9D69-0B83F9C7CF7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684840" y="9067680"/>
            <a:ext cx="2304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5B6EFD7-A227-4F7B-863E-72126C49353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08040" y="4393800"/>
            <a:ext cx="56944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826920" y="212760"/>
            <a:ext cx="5256360" cy="394164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09480" y="4646520"/>
            <a:ext cx="5639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640560"/>
            <a:ext cx="689040" cy="69048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4" name=""/>
          <p:cNvSpPr/>
          <p:nvPr/>
        </p:nvSpPr>
        <p:spPr>
          <a:xfrm>
            <a:off x="1035000" y="7134120"/>
            <a:ext cx="689040" cy="68904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5" name=""/>
          <p:cNvSpPr/>
          <p:nvPr/>
        </p:nvSpPr>
        <p:spPr>
          <a:xfrm>
            <a:off x="1890720" y="6640560"/>
            <a:ext cx="689040" cy="69048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6" name=""/>
          <p:cNvSpPr/>
          <p:nvPr/>
        </p:nvSpPr>
        <p:spPr>
          <a:xfrm>
            <a:off x="2249640" y="7134120"/>
            <a:ext cx="688680" cy="68904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7" name=""/>
          <p:cNvSpPr/>
          <p:nvPr/>
        </p:nvSpPr>
        <p:spPr>
          <a:xfrm>
            <a:off x="3152880" y="6640560"/>
            <a:ext cx="690480" cy="69048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8" name=""/>
          <p:cNvSpPr/>
          <p:nvPr/>
        </p:nvSpPr>
        <p:spPr>
          <a:xfrm>
            <a:off x="3492360" y="7134120"/>
            <a:ext cx="689040" cy="68904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"/>
          <p:cNvSpPr/>
          <p:nvPr/>
        </p:nvSpPr>
        <p:spPr>
          <a:xfrm>
            <a:off x="5564160" y="6640560"/>
            <a:ext cx="687240" cy="69048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0" name=""/>
          <p:cNvSpPr/>
          <p:nvPr/>
        </p:nvSpPr>
        <p:spPr>
          <a:xfrm>
            <a:off x="4359240" y="6640560"/>
            <a:ext cx="687600" cy="69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"/>
          <p:cNvSpPr/>
          <p:nvPr/>
        </p:nvSpPr>
        <p:spPr>
          <a:xfrm>
            <a:off x="4697280" y="7134120"/>
            <a:ext cx="68904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2" name=""/>
          <p:cNvSpPr/>
          <p:nvPr/>
        </p:nvSpPr>
        <p:spPr>
          <a:xfrm>
            <a:off x="716040" y="5756040"/>
            <a:ext cx="76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"/>
          <p:cNvSpPr/>
          <p:nvPr/>
        </p:nvSpPr>
        <p:spPr>
          <a:xfrm>
            <a:off x="1895400" y="5756040"/>
            <a:ext cx="7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4" name=""/>
          <p:cNvSpPr/>
          <p:nvPr/>
        </p:nvSpPr>
        <p:spPr>
          <a:xfrm>
            <a:off x="3170160" y="5756040"/>
            <a:ext cx="7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5" name=""/>
          <p:cNvSpPr/>
          <p:nvPr/>
        </p:nvSpPr>
        <p:spPr>
          <a:xfrm>
            <a:off x="4376880" y="6364440"/>
            <a:ext cx="76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6" name=""/>
          <p:cNvSpPr/>
          <p:nvPr/>
        </p:nvSpPr>
        <p:spPr>
          <a:xfrm>
            <a:off x="5554800" y="5877720"/>
            <a:ext cx="769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"/>
          <p:cNvSpPr/>
          <p:nvPr/>
        </p:nvSpPr>
        <p:spPr>
          <a:xfrm>
            <a:off x="1068480" y="7889760"/>
            <a:ext cx="76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"/>
          <p:cNvSpPr/>
          <p:nvPr/>
        </p:nvSpPr>
        <p:spPr>
          <a:xfrm>
            <a:off x="2247840" y="7889760"/>
            <a:ext cx="77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9" name=""/>
          <p:cNvSpPr/>
          <p:nvPr/>
        </p:nvSpPr>
        <p:spPr>
          <a:xfrm>
            <a:off x="3522600" y="7889760"/>
            <a:ext cx="77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"/>
          <p:cNvSpPr/>
          <p:nvPr/>
        </p:nvSpPr>
        <p:spPr>
          <a:xfrm>
            <a:off x="4729320" y="7889760"/>
            <a:ext cx="76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8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2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8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1920" y="380520"/>
            <a:ext cx="8296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4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2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4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1920" y="380520"/>
            <a:ext cx="8296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11160">
              <a:spcBef>
                <a:spcPts val="2001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03360">
              <a:spcBef>
                <a:spcPts val="2001"/>
              </a:spcBef>
              <a:buClr>
                <a:srgbClr val="0b1f6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6324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3764-12C2-407B-A76A-40DA6C4E01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47400" y="6714720"/>
            <a:ext cx="393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34640" cy="525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382800" y="6264000"/>
            <a:ext cx="23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Light"/>
              </a:rPr>
              <a:t>Crystal Ball Investmen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7800" y="121896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12920" y="1905120"/>
            <a:ext cx="0" cy="457200"/>
          </a:xfrm>
          <a:prstGeom prst="line">
            <a:avLst/>
          </a:prstGeom>
          <a:ln w="7632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846324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EDC9-07C1-4932-87AB-AEB171ACC1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47400" y="6714720"/>
            <a:ext cx="393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34640" cy="52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82800" y="6264000"/>
            <a:ext cx="23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Light"/>
              </a:rPr>
              <a:t>Crystal Ball Investmen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1600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2736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4472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8840">
              <a:lnSpc>
                <a:spcPct val="90000"/>
              </a:lnSpc>
              <a:spcAft>
                <a:spcPts val="799"/>
              </a:spcAft>
              <a:buClr>
                <a:srgbClr val="000000"/>
              </a:buClr>
              <a:buSzPct val="40000"/>
              <a:buFont typeface="Arial"/>
              <a:buChar char="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8840">
              <a:spcBef>
                <a:spcPts val="400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8840">
              <a:spcBef>
                <a:spcPts val="400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86080" y="1523880"/>
            <a:ext cx="0" cy="1905120"/>
          </a:xfrm>
          <a:prstGeom prst="line">
            <a:avLst/>
          </a:prstGeom>
          <a:ln w="10152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5738760" y="4094280"/>
            <a:ext cx="250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York, NY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vember 29, 2004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1920960" y="1523880"/>
            <a:ext cx="63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Presenta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1920960" y="2133720"/>
            <a:ext cx="6384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XXX-Firm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PE Convertible Bond Simulation 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34640" cy="525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382800" y="6264000"/>
            <a:ext cx="23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Light"/>
              </a:rPr>
              <a:t>Crystal Ball Investmen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1920" y="29484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ation of Convert@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09560" y="1300320"/>
          <a:ext cx="7594560" cy="47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1300320"/>
                    <a:ext cx="759456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324240" y="2130480"/>
            <a:ext cx="12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erplate Light"/>
              </a:rPr>
              <a:t>Optimum at 18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"/>
          <p:cNvSpPr/>
          <p:nvPr/>
        </p:nvSpPr>
        <p:spPr>
          <a:xfrm>
            <a:off x="892080" y="728640"/>
            <a:ext cx="72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Light"/>
              </a:rPr>
              <a:t>After deciding on the bond structure the model optimizes the decision of when to convert on a rolling ba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"/>
          <p:cNvSpPr/>
          <p:nvPr/>
        </p:nvSpPr>
        <p:spPr>
          <a:xfrm>
            <a:off x="4203720" y="1714680"/>
            <a:ext cx="91440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77800" y="2742840"/>
            <a:ext cx="6191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6520" y="4152960"/>
            <a:ext cx="6332400" cy="380880"/>
          </a:xfrm>
          <a:prstGeom prst="rect">
            <a:avLst/>
          </a:prstGeom>
          <a:noFill/>
          <a:ln w="3816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2743200"/>
            <a:ext cx="6705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 and Added Value of Simulation Approac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imulation we designed incorporates the following stag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46120" y="1828800"/>
            <a:ext cx="7911360" cy="1294920"/>
            <a:chOff x="546120" y="1828800"/>
            <a:chExt cx="7911360" cy="1294920"/>
          </a:xfrm>
        </p:grpSpPr>
        <p:sp>
          <p:nvSpPr>
            <p:cNvPr id="169" name=""/>
            <p:cNvSpPr/>
            <p:nvPr/>
          </p:nvSpPr>
          <p:spPr>
            <a:xfrm>
              <a:off x="546120" y="1828800"/>
              <a:ext cx="1844640" cy="1293480"/>
            </a:xfrm>
            <a:custGeom>
              <a:avLst/>
              <a:gdLst>
                <a:gd name="textAreaLeft" fmla="*/ 0 w 1844640"/>
                <a:gd name="textAreaRight" fmla="*/ 1845000 w 1844640"/>
                <a:gd name="textAreaTop" fmla="*/ 0 h 1293480"/>
                <a:gd name="textAreaBottom" fmla="*/ 1293840 h 12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5880" y="2382120"/>
              <a:ext cx="129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 Variables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62800" y="1828800"/>
              <a:ext cx="1841760" cy="129492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9480" y="1828800"/>
              <a:ext cx="1844640" cy="1294920"/>
            </a:xfrm>
            <a:custGeom>
              <a:avLst/>
              <a:gdLst>
                <a:gd name="textAreaLeft" fmla="*/ 0 w 1844640"/>
                <a:gd name="textAreaRight" fmla="*/ 1845000 w 184464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98680" y="1828800"/>
              <a:ext cx="1842120" cy="129492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15360" y="1828800"/>
              <a:ext cx="1842120" cy="129492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03000" y="2292840"/>
              <a:ext cx="1296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ulate Stock Behavior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31920" y="2292840"/>
              <a:ext cx="129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vert and Sell under Constraints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70320" y="2382120"/>
              <a:ext cx="129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asure IRR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0840" y="2292840"/>
              <a:ext cx="1296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f Default than Recover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57200" y="3352680"/>
            <a:ext cx="1600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pon Rate Variable: between 3% - 8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rtization Variable: schedule 12/24 or non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rt@ Variable: is optimized in a later stage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3352680"/>
            <a:ext cx="1600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n and standard deviation for distribution provided by analyst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3352680"/>
            <a:ext cx="1600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ecute conversion according to simulated variables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3352680"/>
            <a:ext cx="1600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y value according to historical industry data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3352680"/>
            <a:ext cx="1600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 is composed of the average IRR of thousands of iteration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imulation includes the following variab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"/>
          <p:cNvSpPr/>
          <p:nvPr/>
        </p:nvSpPr>
        <p:spPr>
          <a:xfrm>
            <a:off x="6510240" y="325800"/>
            <a:ext cx="422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Set Variables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"/>
          <p:cNvSpPr/>
          <p:nvPr/>
        </p:nvSpPr>
        <p:spPr>
          <a:xfrm>
            <a:off x="68976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"/>
          <p:cNvSpPr/>
          <p:nvPr/>
        </p:nvSpPr>
        <p:spPr>
          <a:xfrm>
            <a:off x="73944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"/>
          <p:cNvSpPr/>
          <p:nvPr/>
        </p:nvSpPr>
        <p:spPr>
          <a:xfrm>
            <a:off x="7891560" y="152280"/>
            <a:ext cx="603000" cy="533520"/>
          </a:xfrm>
          <a:custGeom>
            <a:avLst/>
            <a:gdLst>
              <a:gd name="textAreaLeft" fmla="*/ 0 w 603000"/>
              <a:gd name="textAreaRight" fmla="*/ 603360 w 6030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"/>
          <p:cNvSpPr/>
          <p:nvPr/>
        </p:nvSpPr>
        <p:spPr>
          <a:xfrm>
            <a:off x="838836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"/>
          <p:cNvSpPr/>
          <p:nvPr/>
        </p:nvSpPr>
        <p:spPr>
          <a:xfrm>
            <a:off x="7008840" y="281880"/>
            <a:ext cx="42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mulating Stock Behavio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"/>
          <p:cNvSpPr/>
          <p:nvPr/>
        </p:nvSpPr>
        <p:spPr>
          <a:xfrm>
            <a:off x="7510320" y="236160"/>
            <a:ext cx="4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vert and Sell by Constraints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"/>
          <p:cNvSpPr/>
          <p:nvPr/>
        </p:nvSpPr>
        <p:spPr>
          <a:xfrm>
            <a:off x="8504280" y="325800"/>
            <a:ext cx="425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asuring IR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"/>
          <p:cNvSpPr/>
          <p:nvPr/>
        </p:nvSpPr>
        <p:spPr>
          <a:xfrm>
            <a:off x="8010360" y="281880"/>
            <a:ext cx="4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Defaulted than Recove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 Characteristic of St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2057400"/>
            <a:ext cx="3429000" cy="34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cision Variables are: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sion Premiu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ortization Schedul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ed@ Variabl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lustrative Examp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2057400"/>
            <a:ext cx="3429000" cy="34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0" t="15976" r="3909" b="9486"/>
          <a:stretch/>
        </p:blipFill>
        <p:spPr>
          <a:xfrm>
            <a:off x="5035680" y="2760840"/>
            <a:ext cx="32176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tock behavior is reflected in the simul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325800"/>
            <a:ext cx="422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t Variables 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4" name=""/>
          <p:cNvSpPr/>
          <p:nvPr/>
        </p:nvSpPr>
        <p:spPr>
          <a:xfrm>
            <a:off x="68976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"/>
          <p:cNvSpPr/>
          <p:nvPr/>
        </p:nvSpPr>
        <p:spPr>
          <a:xfrm>
            <a:off x="73944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"/>
          <p:cNvSpPr/>
          <p:nvPr/>
        </p:nvSpPr>
        <p:spPr>
          <a:xfrm>
            <a:off x="7891560" y="152280"/>
            <a:ext cx="603000" cy="533520"/>
          </a:xfrm>
          <a:custGeom>
            <a:avLst/>
            <a:gdLst>
              <a:gd name="textAreaLeft" fmla="*/ 0 w 603000"/>
              <a:gd name="textAreaRight" fmla="*/ 603360 w 6030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"/>
          <p:cNvSpPr/>
          <p:nvPr/>
        </p:nvSpPr>
        <p:spPr>
          <a:xfrm>
            <a:off x="838836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"/>
          <p:cNvSpPr/>
          <p:nvPr/>
        </p:nvSpPr>
        <p:spPr>
          <a:xfrm>
            <a:off x="7008840" y="281880"/>
            <a:ext cx="42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Simulating Stock Behavio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"/>
          <p:cNvSpPr/>
          <p:nvPr/>
        </p:nvSpPr>
        <p:spPr>
          <a:xfrm>
            <a:off x="7510320" y="236160"/>
            <a:ext cx="4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vert and Sell by Constraints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"/>
          <p:cNvSpPr/>
          <p:nvPr/>
        </p:nvSpPr>
        <p:spPr>
          <a:xfrm>
            <a:off x="8504280" y="325800"/>
            <a:ext cx="425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asuring IR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"/>
          <p:cNvSpPr/>
          <p:nvPr/>
        </p:nvSpPr>
        <p:spPr>
          <a:xfrm>
            <a:off x="8010360" y="281880"/>
            <a:ext cx="4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Defaulted than Recove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 Characteristic of St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four basic scenarios for expected returns are provided by an analyst: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 Gues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ssimistic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ruptc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of the scenarios is assigned a probability value, denoting the chance that it occu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lection is the determinant governing the parameters of the normal distribution of retur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lustrative Examp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301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1920" y="533520"/>
            <a:ext cx="8296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use the Convert@ Value as a lower bound for conversion decision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"/>
          <p:cNvSpPr/>
          <p:nvPr/>
        </p:nvSpPr>
        <p:spPr>
          <a:xfrm>
            <a:off x="6510240" y="325800"/>
            <a:ext cx="422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t Variables 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"/>
          <p:cNvSpPr/>
          <p:nvPr/>
        </p:nvSpPr>
        <p:spPr>
          <a:xfrm>
            <a:off x="68976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"/>
          <p:cNvSpPr/>
          <p:nvPr/>
        </p:nvSpPr>
        <p:spPr>
          <a:xfrm>
            <a:off x="73944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"/>
          <p:cNvSpPr/>
          <p:nvPr/>
        </p:nvSpPr>
        <p:spPr>
          <a:xfrm>
            <a:off x="7891560" y="152280"/>
            <a:ext cx="603000" cy="533520"/>
          </a:xfrm>
          <a:custGeom>
            <a:avLst/>
            <a:gdLst>
              <a:gd name="textAreaLeft" fmla="*/ 0 w 603000"/>
              <a:gd name="textAreaRight" fmla="*/ 603360 w 6030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"/>
          <p:cNvSpPr/>
          <p:nvPr/>
        </p:nvSpPr>
        <p:spPr>
          <a:xfrm>
            <a:off x="838836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5" name=""/>
          <p:cNvSpPr/>
          <p:nvPr/>
        </p:nvSpPr>
        <p:spPr>
          <a:xfrm>
            <a:off x="7008840" y="281880"/>
            <a:ext cx="42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mulating Stock Behavio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"/>
          <p:cNvSpPr/>
          <p:nvPr/>
        </p:nvSpPr>
        <p:spPr>
          <a:xfrm>
            <a:off x="7510320" y="236160"/>
            <a:ext cx="4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Convert and Sell by Constraints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"/>
          <p:cNvSpPr/>
          <p:nvPr/>
        </p:nvSpPr>
        <p:spPr>
          <a:xfrm>
            <a:off x="8504280" y="325800"/>
            <a:ext cx="425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asuring IR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"/>
          <p:cNvSpPr/>
          <p:nvPr/>
        </p:nvSpPr>
        <p:spPr>
          <a:xfrm>
            <a:off x="8010360" y="281880"/>
            <a:ext cx="4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Defaulted than Recove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 Characteristic of St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ery month stock price is compared to value of Convert@ threshold and converted if greater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62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mit on amount of principal that can be converted every month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ell the stock as fast as possibl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mit on volume of shares that can be sold every month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lustrative Examp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included the possibility of default in the simul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"/>
          <p:cNvSpPr/>
          <p:nvPr/>
        </p:nvSpPr>
        <p:spPr>
          <a:xfrm>
            <a:off x="6510240" y="325800"/>
            <a:ext cx="422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t Variables 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"/>
          <p:cNvSpPr/>
          <p:nvPr/>
        </p:nvSpPr>
        <p:spPr>
          <a:xfrm>
            <a:off x="68976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"/>
          <p:cNvSpPr/>
          <p:nvPr/>
        </p:nvSpPr>
        <p:spPr>
          <a:xfrm>
            <a:off x="73944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"/>
          <p:cNvSpPr/>
          <p:nvPr/>
        </p:nvSpPr>
        <p:spPr>
          <a:xfrm>
            <a:off x="7891560" y="152280"/>
            <a:ext cx="603000" cy="533520"/>
          </a:xfrm>
          <a:custGeom>
            <a:avLst/>
            <a:gdLst>
              <a:gd name="textAreaLeft" fmla="*/ 0 w 603000"/>
              <a:gd name="textAreaRight" fmla="*/ 603360 w 6030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"/>
          <p:cNvSpPr/>
          <p:nvPr/>
        </p:nvSpPr>
        <p:spPr>
          <a:xfrm>
            <a:off x="838836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"/>
          <p:cNvSpPr/>
          <p:nvPr/>
        </p:nvSpPr>
        <p:spPr>
          <a:xfrm>
            <a:off x="7008840" y="281880"/>
            <a:ext cx="42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mulating Stock Behavio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"/>
          <p:cNvSpPr/>
          <p:nvPr/>
        </p:nvSpPr>
        <p:spPr>
          <a:xfrm>
            <a:off x="7510320" y="236160"/>
            <a:ext cx="4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vert and Sell by Constraints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"/>
          <p:cNvSpPr/>
          <p:nvPr/>
        </p:nvSpPr>
        <p:spPr>
          <a:xfrm>
            <a:off x="8504280" y="325800"/>
            <a:ext cx="425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asuring IR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"/>
          <p:cNvSpPr/>
          <p:nvPr/>
        </p:nvSpPr>
        <p:spPr>
          <a:xfrm>
            <a:off x="8010360" y="281880"/>
            <a:ext cx="4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If Defaulted than Recove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 Characteristic of St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ock can default with a given probability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f company defaults then use historical industry data to calculate expected salvage value and write-off rest of debt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sh flows after default = zero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lustrative Examp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35304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y output is the measurement of IR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"/>
          <p:cNvSpPr/>
          <p:nvPr/>
        </p:nvSpPr>
        <p:spPr>
          <a:xfrm>
            <a:off x="6510240" y="325800"/>
            <a:ext cx="422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t Variables 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"/>
          <p:cNvSpPr/>
          <p:nvPr/>
        </p:nvSpPr>
        <p:spPr>
          <a:xfrm>
            <a:off x="68976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"/>
          <p:cNvSpPr/>
          <p:nvPr/>
        </p:nvSpPr>
        <p:spPr>
          <a:xfrm>
            <a:off x="73944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"/>
          <p:cNvSpPr/>
          <p:nvPr/>
        </p:nvSpPr>
        <p:spPr>
          <a:xfrm>
            <a:off x="7891560" y="152280"/>
            <a:ext cx="603000" cy="533520"/>
          </a:xfrm>
          <a:custGeom>
            <a:avLst/>
            <a:gdLst>
              <a:gd name="textAreaLeft" fmla="*/ 0 w 603000"/>
              <a:gd name="textAreaRight" fmla="*/ 603360 w 6030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"/>
          <p:cNvSpPr/>
          <p:nvPr/>
        </p:nvSpPr>
        <p:spPr>
          <a:xfrm>
            <a:off x="838836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"/>
          <p:cNvSpPr/>
          <p:nvPr/>
        </p:nvSpPr>
        <p:spPr>
          <a:xfrm>
            <a:off x="7008840" y="281880"/>
            <a:ext cx="42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mulating Stock Behavio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"/>
          <p:cNvSpPr/>
          <p:nvPr/>
        </p:nvSpPr>
        <p:spPr>
          <a:xfrm>
            <a:off x="7510320" y="236160"/>
            <a:ext cx="4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vert and Sell by Constraints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"/>
          <p:cNvSpPr/>
          <p:nvPr/>
        </p:nvSpPr>
        <p:spPr>
          <a:xfrm>
            <a:off x="8504280" y="325800"/>
            <a:ext cx="425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Measuring IR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"/>
          <p:cNvSpPr/>
          <p:nvPr/>
        </p:nvSpPr>
        <p:spPr>
          <a:xfrm>
            <a:off x="8010360" y="281880"/>
            <a:ext cx="4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Defaulted than Recove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 Characteristic of St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R is used as the principal measure of performanc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 tolerance level defined as having less then 1% probability of loosing money on the investmen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nalysis includes the use of VaR paramet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lustrative Examp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010120" y="2908440"/>
          <a:ext cx="3346560" cy="170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0120" y="2908440"/>
                    <a:ext cx="334656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7718400" y="2825640"/>
            <a:ext cx="55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IRR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451840" y="3474360"/>
            <a:ext cx="127080" cy="182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>
            <a:off x="4975200" y="2930400"/>
            <a:ext cx="93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Risk tolerance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06520" y="4629240"/>
            <a:ext cx="6332400" cy="380880"/>
          </a:xfrm>
          <a:prstGeom prst="rect">
            <a:avLst/>
          </a:prstGeom>
          <a:noFill/>
          <a:ln w="3816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2743200"/>
            <a:ext cx="6705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 and Added Value of Simulation Approac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600200"/>
            <a:ext cx="792468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1905120"/>
            <a:ext cx="7924680" cy="34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uct a multi bond portfolio analysis to examine the risk and return characteristics of several convertible bonds combined in a portfolio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e and Test a time dependant Convert@ threshold valu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06520" y="2666880"/>
            <a:ext cx="6332400" cy="381240"/>
          </a:xfrm>
          <a:prstGeom prst="rect">
            <a:avLst/>
          </a:prstGeom>
          <a:noFill/>
          <a:ln w="3816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743200"/>
            <a:ext cx="6705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 and Added Value of Simulation Approac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imulations model we designed can be used in the following hypothetical scenari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00200"/>
            <a:ext cx="792468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905120"/>
            <a:ext cx="7924680" cy="34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stal Balls Investmen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$50 million investment fund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 targets are small cap compani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lient - XXX-Fir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$10 million Market Cap public company looking to expand its busines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pany’s management believe they can grow with sufficient funding, but are not able to secure favorable financing from the bank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pany is unwilling to issue shares at the current stock price, or unable to do so because of the high costs involved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propose the following investment 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057400"/>
            <a:ext cx="3429000" cy="34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ing the company a $1mm convertible PI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tages to the compan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er interest r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dilution unless growth strategy proves successfu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PE Investmen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057400"/>
            <a:ext cx="3429000" cy="34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PE= Private Investment in Public Equ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 characteristics: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nd with fixed coup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ible at a premium to the company’s public stock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 strategy through coupon, amortization or sale of stock on the open marke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77800" y="2742840"/>
            <a:ext cx="6191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6520" y="3162240"/>
            <a:ext cx="6332400" cy="381240"/>
          </a:xfrm>
          <a:prstGeom prst="rect">
            <a:avLst/>
          </a:prstGeom>
          <a:noFill/>
          <a:ln w="3816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743200"/>
            <a:ext cx="6705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 and Added Value of Simulation Approac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propose to design a simulation to enhance the decision making pro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600200"/>
            <a:ext cx="792468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oals and added valu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905120"/>
            <a:ext cx="7924680" cy="34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the negotiation stage – Value each option and prepa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quivalent off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Negotiation – Optimize decision variabl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ed Valu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al approach to replace current “experience” based decisions in the negotiation stag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decision variable for day-to-day decisions instead of opinion based decis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77800" y="2742840"/>
            <a:ext cx="6191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6520" y="3648240"/>
            <a:ext cx="6332400" cy="380880"/>
          </a:xfrm>
          <a:prstGeom prst="rect">
            <a:avLst/>
          </a:prstGeom>
          <a:noFill/>
          <a:ln w="3816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743200"/>
            <a:ext cx="6705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 and Added Value of Simulation Approac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sults of our simulation will provide the following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00600" y="4343400"/>
          <a:ext cx="3429000" cy="15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4343400"/>
                    <a:ext cx="34290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800600" y="1143000"/>
          <a:ext cx="3429000" cy="154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143000"/>
                    <a:ext cx="34290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800600" y="2724120"/>
          <a:ext cx="3419640" cy="1542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724120"/>
                    <a:ext cx="34196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1371600"/>
            <a:ext cx="3961080" cy="1123920"/>
            <a:chOff x="533520" y="1371600"/>
            <a:chExt cx="3961080" cy="1123920"/>
          </a:xfrm>
        </p:grpSpPr>
        <p:sp>
          <p:nvSpPr>
            <p:cNvPr id="127" name=""/>
            <p:cNvSpPr/>
            <p:nvPr/>
          </p:nvSpPr>
          <p:spPr>
            <a:xfrm>
              <a:off x="533520" y="1371600"/>
              <a:ext cx="3961080" cy="1123920"/>
            </a:xfrm>
            <a:custGeom>
              <a:avLst/>
              <a:gdLst>
                <a:gd name="textAreaLeft" fmla="*/ 0 w 3961080"/>
                <a:gd name="textAreaRight" fmla="*/ 3961440 w 396108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43440" y="1615680"/>
              <a:ext cx="278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Amortization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amortization schedule is unacceptable under any configuration as it violates the 1% risk constraint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2914560"/>
            <a:ext cx="3961080" cy="1123920"/>
            <a:chOff x="533520" y="2914560"/>
            <a:chExt cx="3961080" cy="1123920"/>
          </a:xfrm>
        </p:grpSpPr>
        <p:sp>
          <p:nvSpPr>
            <p:cNvPr id="130" name=""/>
            <p:cNvSpPr/>
            <p:nvPr/>
          </p:nvSpPr>
          <p:spPr>
            <a:xfrm>
              <a:off x="533520" y="2914560"/>
              <a:ext cx="3961080" cy="1123920"/>
            </a:xfrm>
            <a:custGeom>
              <a:avLst/>
              <a:gdLst>
                <a:gd name="textAreaLeft" fmla="*/ 0 w 3961080"/>
                <a:gd name="textAreaRight" fmla="*/ 3961440 w 396108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43440" y="3156840"/>
              <a:ext cx="278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rtizing starting at month 24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amortization schedule is acceptable at configuration which include a coupon larger then 7%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73120" y="4594320"/>
            <a:ext cx="3961440" cy="1140840"/>
            <a:chOff x="573120" y="4594320"/>
            <a:chExt cx="3961440" cy="1140840"/>
          </a:xfrm>
        </p:grpSpPr>
        <p:sp>
          <p:nvSpPr>
            <p:cNvPr id="133" name=""/>
            <p:cNvSpPr/>
            <p:nvPr/>
          </p:nvSpPr>
          <p:spPr>
            <a:xfrm>
              <a:off x="573120" y="4594320"/>
              <a:ext cx="3961440" cy="1140840"/>
            </a:xfrm>
            <a:custGeom>
              <a:avLst/>
              <a:gdLst>
                <a:gd name="textAreaLeft" fmla="*/ 0 w 3961440"/>
                <a:gd name="textAreaRight" fmla="*/ 3961800 w 3961440"/>
                <a:gd name="textAreaTop" fmla="*/ 0 h 1140840"/>
                <a:gd name="textAreaBottom" fmla="*/ 1141200 h 114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83040" y="4845960"/>
              <a:ext cx="278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rtizing starting at month 12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amortization schedule is acceptable at configuration which include a coupon larger then 6%.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952880" y="12952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"/>
          <p:cNvSpPr/>
          <p:nvPr/>
        </p:nvSpPr>
        <p:spPr>
          <a:xfrm>
            <a:off x="4838760" y="4648320"/>
            <a:ext cx="5335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5460480" y="1359000"/>
            <a:ext cx="127080" cy="1904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5479560" y="3070080"/>
            <a:ext cx="126720" cy="1904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5422680" y="4841640"/>
            <a:ext cx="127080" cy="1908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7629480" y="112392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erplate Light"/>
              </a:rPr>
              <a:t>IR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4797360" y="1158840"/>
            <a:ext cx="93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Risk tolerance*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>
            <a:off x="4813200" y="2736720"/>
            <a:ext cx="93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Risk tolerance*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4772160" y="4352760"/>
            <a:ext cx="93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Risk tolerance*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"/>
          <p:cNvSpPr/>
          <p:nvPr/>
        </p:nvSpPr>
        <p:spPr>
          <a:xfrm>
            <a:off x="266760" y="5915160"/>
            <a:ext cx="864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* Risk tolerance level defined as having less then 1% probability of loosing money on the investment, additional analysis includes the use of VaR parameters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we chose the amortization schedule we can compare two different investment term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57360" y="2867040"/>
          <a:ext cx="7581600" cy="31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867040"/>
                    <a:ext cx="75816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33240" y="1701720"/>
            <a:ext cx="7527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ven a choice between a 6%/ 10% (Coupon/Premium) and a 8%/30% (Coupon/Premium) configuration we will prefer the first, given the higher expected return (16.1% compared with 13%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2952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2016720" y="3939480"/>
            <a:ext cx="260640" cy="3888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"/>
          <p:cNvSpPr/>
          <p:nvPr/>
        </p:nvSpPr>
        <p:spPr>
          <a:xfrm>
            <a:off x="733320" y="3807000"/>
            <a:ext cx="627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"/>
          <p:cNvSpPr/>
          <p:nvPr/>
        </p:nvSpPr>
        <p:spPr>
          <a:xfrm>
            <a:off x="7257960" y="290196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erplate Light"/>
              </a:rPr>
              <a:t>IR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1260360" y="29336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erplate Light"/>
              </a:rPr>
              <a:t>Risk toleranc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"/>
          <p:cNvSpPr/>
          <p:nvPr/>
        </p:nvSpPr>
        <p:spPr>
          <a:xfrm>
            <a:off x="2828880" y="4095720"/>
            <a:ext cx="95400" cy="85680"/>
          </a:xfrm>
          <a:prstGeom prst="flowChartConnector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3435480"/>
            <a:ext cx="95400" cy="85680"/>
          </a:xfrm>
          <a:prstGeom prst="flowChartConnector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"/>
          <p:cNvSpPr/>
          <p:nvPr/>
        </p:nvSpPr>
        <p:spPr>
          <a:xfrm>
            <a:off x="2568600" y="4425840"/>
            <a:ext cx="95400" cy="85680"/>
          </a:xfrm>
          <a:prstGeom prst="flowChartConnector">
            <a:avLst/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20:35:15Z</dcterms:created>
  <dc:creator>Sebastian Blum</dc:creator>
  <dc:description/>
  <dc:language>en-US</dc:language>
  <cp:lastModifiedBy>Ariel Bino</cp:lastModifiedBy>
  <cp:lastPrinted>2004-10-11T23:20:19Z</cp:lastPrinted>
  <dcterms:modified xsi:type="dcterms:W3CDTF">2004-12-02T11:55:00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41397003</vt:r8>
  </property>
  <property fmtid="{D5CDD505-2E9C-101B-9397-08002B2CF9AE}" pid="3" name="_AuthorEmail">
    <vt:lpwstr>sr903@stern.nyu.edu</vt:lpwstr>
  </property>
  <property fmtid="{D5CDD505-2E9C-101B-9397-08002B2CF9AE}" pid="4" name="_AuthorEmailDisplayName">
    <vt:lpwstr>Sam Rubin</vt:lpwstr>
  </property>
  <property fmtid="{D5CDD505-2E9C-101B-9397-08002B2CF9AE}" pid="5" name="_EmailSubject">
    <vt:lpwstr>Group project</vt:lpwstr>
  </property>
  <property fmtid="{D5CDD505-2E9C-101B-9397-08002B2CF9AE}" pid="6" name="_PreviousAdHocReviewCycleID">
    <vt:r8>1396485967</vt:r8>
  </property>
</Properties>
</file>